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7B77-D994-4ABD-9623-505C47023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CDAE-429C-4F89-A5A2-EBE1C3EAC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41E1-603A-4756-B871-F357FE423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811C-AC42-4FE6-A0A9-A45A8509D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0ED4-1F2B-43A9-9AE9-623DD522A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FCF0-D972-4DA5-866C-EF0A7FDE5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DB6C-37E9-4C01-84DD-BEA64E89A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3253-59BF-4EE6-B481-BCB62508B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462F-4F51-4D90-8E78-A2AE0BE60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0693-59BE-47D9-B834-AC810556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64A8-B1F7-4D41-835F-2B83D987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767E-EEF4-4D57-B7EA-BA3ED1B2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6A6021-6AA0-4CAA-BE06-5AE8863C5F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260880" y="2600280"/>
            <a:ext cx="3600360" cy="18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20648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ord Division </a:t>
            </a: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roblem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 Problem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hael was packing 18 cabbages in boxes. Nine cabbages can fit in a box. How many boxes does Michael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828800"/>
            <a:ext cx="59436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=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0080" y="2286000"/>
            <a:ext cx="685800" cy="1440"/>
          </a:xfrm>
          <a:prstGeom prst="line">
            <a:avLst/>
          </a:prstGeom>
          <a:ln w="3672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28680" y="1828800"/>
            <a:ext cx="228600" cy="228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8680" y="2514600"/>
            <a:ext cx="228600" cy="228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60020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60020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228600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60020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43000" y="228600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43000" y="160020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160020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160020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228600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14600" y="228600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14600" y="160020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86200" y="160020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00400" y="228600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228600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86200" y="228600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60840" y="160020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932440" y="160020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60840" y="228600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60840" y="160020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46640" y="228600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246640" y="160020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32440" y="160020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32440" y="160020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932440" y="228600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618240" y="228600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618240" y="160020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304040" y="160020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304040" y="228600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246640" y="228600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43000" y="297180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297180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297180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00400" y="160020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00400" y="160020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365760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14600" y="297180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00400" y="297180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001000" y="160020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0T14:15:28Z</dcterms:created>
  <dc:creator/>
  <dc:description/>
  <dc:language>en-US</dc:language>
  <cp:lastModifiedBy/>
  <cp:revision>1</cp:revision>
  <dc:subject/>
  <dc:title/>
</cp:coreProperties>
</file>